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D69-A625-4A7E-898E-EDA189EF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D63-C7B8-4571-89EE-3752164D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962-A25A-4B1B-A523-79C335AC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E25-7009-4E40-862B-BF2B04FC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39D4-B652-4AEB-AE07-8A78967A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39A1-63FE-431C-B20E-9C190744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43A2-1FB2-4572-B119-752E12F8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42F-4FE1-4A18-B400-5DA7523C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9D58-0179-41A5-94C9-1E143215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AEEE-16CF-46DB-8208-3ABA06F4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B5F9-3AFC-4430-9B86-9F7B86D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140-6AEC-45EA-B5E1-5429B46D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6BAE-1B10-48A3-8938-729F6E0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B386-8DC5-41A5-8469-1BE9ED3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59FE-C796-4B2E-A5EC-9FBC760B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5C41-A745-41B7-AAC7-16EC002B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5AB9-F4CF-4FA3-A368-51711368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3AB-F8DE-42F2-8890-98EBDE1C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ADD-4A62-41FE-AAF0-02B8E854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CF0-B8C3-4A19-A772-E3179CB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DB4-7D0A-404F-9615-BDCBB9B5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0E2-0329-4277-91B2-9CBD80E7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F34-93A6-4585-B897-C2EBD88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060-0A09-4D9C-A1F1-4AAFE0B9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96C4-ACCF-4375-9B1A-A0340E7BD34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95A7-9729-4B71-A1CA-D06F301E832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23:01:10Z</dcterms:modified>
  <cp:revision>5</cp:revision>
  <dc:subject/>
  <dc:title>PowerPoint Presentation</dc:title>
</cp:coreProperties>
</file>