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AD0-6E24-4459-879B-A8D7192B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CCA-8BAA-4ED8-9EBC-9565B129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98A-BBFE-418E-B58A-10FB0E88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9A9-E446-48B8-B94F-8DDA08EE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66C2-BB98-4AFA-B949-0D9F5BA1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39AB-BBB0-4B0B-ACD7-BE022FF3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115D-AACE-46BC-B023-FAFBAF26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F5E2-B482-49F2-8323-101E8B98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D232-542D-40EA-BC75-6206DA21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63B5-9863-4C5E-9ACE-7CE452AF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5623-7C86-4D74-9BD0-E5E8CC15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C29-CDC1-4315-9CCF-88BF507E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8DD8-4FFC-4964-ACF7-1A383324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C009-6F63-475C-BFAF-77C3B172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CE61-8B54-4CCF-AD9F-9B4D38E2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3D6B-581F-428D-99FC-28990F33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F8C1-05A9-4F85-87BD-7490BB8A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A0F-3922-4F05-951F-A91CEDFB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136-FE25-449E-B710-CF14902F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0FE-5641-4F31-9582-477AADBB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8FD-358D-4B59-A856-20D1A45E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3D3-45D1-44C8-818D-A886F57F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D6E-FBA6-47EF-B7B6-BAFC8793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D66-CBDF-418D-8680-DC9B236C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0BED-8F3B-4FB7-A23C-00C5DCE2BCD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8D67-2BCA-420A-AD7B-C11BA017E17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4800600" cy="3504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from Latin: 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in- not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 congruous- to come together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The singer’s voice was incongruous, so he lost the competition.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047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17524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 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congruous- adj. inconsistent or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	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appropriate; not harmonious</a:t>
            </a:r>
            <a:endParaRPr b="0" lang="en-US" sz="32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deferential- adj. very respectfu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981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124080"/>
            <a:ext cx="51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defer- to bear apart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ence- the state or condition of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The deferential child never spoke out of turn or shouted indoors.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19429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54:24Z</dcterms:created>
  <dc:creator>Kathy Hollywood</dc:creator>
  <dc:description/>
  <dc:language>en-US</dc:language>
  <cp:lastModifiedBy>Kathy Hollywood</cp:lastModifiedBy>
  <dcterms:modified xsi:type="dcterms:W3CDTF">2010-01-21T23:01:10Z</dcterms:modified>
  <cp:revision>5</cp:revision>
  <dc:subject/>
  <dc:title>PowerPoint Presentation</dc:title>
</cp:coreProperties>
</file>