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391-F124-4BA6-BDDF-B9DA79E8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A0C-4735-40F5-81B5-8AB3B98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7DC-7776-44BC-A588-EA39F977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3C4-7DBD-490E-B90B-D08F92D6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64F6-6388-4A37-B00B-4AF3A001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48DD-8276-4999-AB81-BC0D0C25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4843-490B-4674-BC57-78050B53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A47A-8EA8-4B75-8916-E7905ACA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1A4C-2A73-479F-8CD1-AF929FA1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850E-F2B2-44A9-8189-5BD2B7A2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50F1-3084-4E70-9F54-ADB9AA03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829-2077-48FE-8650-E9A9136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201F-0A73-480C-9EBA-9875D54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72C3-AA4A-4323-9B40-061CD79E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F4A9-FDD5-4EEA-9293-6BE739E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BE09-2874-4011-A485-90834E7E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191D-701C-4D2D-8CF5-4C041A72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62B-4357-4C07-8E04-A9DB9DC0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5E7-383C-4E80-AFF3-55B8E29A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E33-512E-4876-841A-684DFBBA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E2F-85AF-4D0F-A531-CF0AA77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9C9-E6E0-4ED2-9C69-8D0E988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D25-430D-4D3C-96F1-E296A91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596-EDD3-43EA-98FB-5DA90E6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5F00-1135-4AB4-8069-1E837B0F3AE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A164-AA59-48A3-A7DC-385ED9C9487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02:45:09Z</dcterms:modified>
  <cp:revision>4</cp:revision>
  <dc:subject/>
  <dc:title>PowerPoint Presentation</dc:title>
</cp:coreProperties>
</file>