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375-07CD-4B1A-9CDD-5A85AD55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B15-EF5D-400A-A86B-A4648DF8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2FF-B571-4EB6-8FBE-FC4F6DA3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BB1-208F-4CE8-B191-965F02DD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29DD-3600-482E-8EC8-52AE3D6E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C30B-BAEC-476A-A1E2-23B6D89F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BCDA-43FA-44ED-91FC-C826CB85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1CE8-E148-455D-9D0A-28430F55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258A-4BEA-491E-A973-3714C2CF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CFD9-E76B-41BD-B973-F9FF185E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1A8D-3BF4-436F-A0A7-8296FF32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FC1-FD42-4F90-87C5-48069360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79F2-CDFE-4BF2-BD51-4A3B00BC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F8C4-2181-4739-84F2-A390D2CC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A5CF-ED45-4A37-9B17-0C78E886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2B55-010F-4736-B277-6E962BFC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702A-0B45-4105-8CF7-E7F1D35F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D39-AA34-4F3C-A192-EED4C781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038-7A37-4A29-A474-E543863C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949-F4AA-4D1A-B6BD-1A111C17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A67-C2D6-4459-BD26-AFCFA424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B56-5EE1-4328-B48D-B3E8655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22A-28AE-4B0A-B1AC-C6FAF00B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806-981B-4714-9364-7990D514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BA24-F775-4860-BF8F-16EFE42F26F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FA25-D7A4-44A7-929C-59E78131822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4800600" cy="3504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rom Latin: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in- not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 congruous- to come togeth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The singer’s voice was incongruous, so he lost the competition.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17524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 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congruous- adj. inconsistent or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appropriate; not harmonious</a:t>
            </a:r>
            <a:endParaRPr b="0" lang="en-US" sz="32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deferential- adj. very respectfu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981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124080"/>
            <a:ext cx="51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defer- to bear apart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ence- the state or condition of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The deferential child never spoke out of turn or shouted indoors.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942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54:24Z</dcterms:created>
  <dc:creator>Kathy Hollywood</dc:creator>
  <dc:description/>
  <dc:language>en-US</dc:language>
  <cp:lastModifiedBy>Kathy Hollywood</cp:lastModifiedBy>
  <dcterms:modified xsi:type="dcterms:W3CDTF">2010-01-21T02:45:09Z</dcterms:modified>
  <cp:revision>4</cp:revision>
  <dc:subject/>
  <dc:title>PowerPoint Presentation</dc:title>
</cp:coreProperties>
</file>