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9C9-FEEC-42F5-8C3F-D22908DF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468-FCA3-4984-8E53-68B8F0B8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3C9-FAEB-47BA-9B25-1D5542CA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C62-B78B-44CA-896B-E8F2A233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7E65-A7F1-4AA3-9F18-894FF4AF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4A81-7ADE-4DB6-B660-6AA6CEA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402-3C0F-4A35-BBFB-DE0099B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49F8-C0DD-4288-B984-4DB4DE9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1C00-9A0A-4205-9F0F-67C762D0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AC7-1718-4595-ACE3-0E817F1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CA5-AB41-4A00-98DA-B5CD330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CE0-36EA-4961-B288-424E0DD5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C87-25C4-42A4-AFC0-651FCB4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E48C-6E37-4475-8443-57C5D65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257-E6E2-452C-AC83-CA26C034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4D9-7BBD-4242-8BA4-123E38C2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AE2-8930-4204-967F-C8C6B17F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E25-4F6C-400E-BCE6-3EF2711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84F-DB7C-4BC1-9344-FEC2AF0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553-6479-4C0B-88A2-2C159EE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D1C-DD57-4FF7-AD8F-AE91227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41F-B788-4670-9CA9-BC340C4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4BC-7CDC-48DE-9515-C6D55F3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4BB-6C32-4B3F-A150-BE19628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184E-175F-45CB-8760-40BBAE246D8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BC8-FFD3-4AC6-ADBB-F5F74CAF2CD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02:45:09Z</dcterms:modified>
  <cp:revision>4</cp:revision>
  <dc:subject/>
  <dc:title>PowerPoint Presentation</dc:title>
</cp:coreProperties>
</file>