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7EF-B229-474F-9FCE-DF4F8E5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CEB-9720-40B3-B0ED-A90B590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394-C419-427B-9BD6-869F9639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A28-9677-49D9-8E35-04CB623E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2ABE-FCC8-4066-9A42-2058C460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51F-D973-4F2D-93D1-407BFBC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BFAD-178A-40E9-8545-2F684C73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4EDE-E192-4A55-8DB3-34052A4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6DA-E2F4-43CB-86E6-E9A809C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57AC-E4C4-4895-87F7-C7388A7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10E8-0843-4CCF-9381-E62EB42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B3A-49E1-4B44-877B-43BADF4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0D43-DEF2-4793-A62E-60DC522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E4CF-3814-4DD1-9DDB-ED7A575A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069-0716-4D57-8FE6-0A2AAC7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081-F9EB-457E-A37B-28923B62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738-82B1-4D86-B7F7-71209A9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255-2BF3-4386-AC7A-6FF2FAE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3AE-D7A7-4D6B-9229-5AB7B1FF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102-73E2-477A-A18E-3A4215D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BFB-CE04-4629-84D1-FB029C4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351-0374-45C7-A6F1-DF47F30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DC8-DF36-47C4-BA73-9F012BB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42B-654B-4815-852E-4BC4901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4DA8-5705-44D4-BAAF-B3722AB9C75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91F4-2084-4A45-ACA3-D57E6DFC8DD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02:45:09Z</dcterms:modified>
  <cp:revision>4</cp:revision>
  <dc:subject/>
  <dc:title>PowerPoint Presentation</dc:title>
</cp:coreProperties>
</file>