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3DE0-772E-4BC4-839E-FB484C67F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2372-49DD-4446-9C3F-76F72C2F2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F9B8-516E-4708-902C-9F1EB57C6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D0F5-F5BB-4C6A-AD09-77D584936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297A-5750-4495-9EA9-A7BB88F70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19B3-2A19-479D-B71B-D0B42C56F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112B-5224-45D5-B466-78801824F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0295-6B94-4C16-8D3C-E0ED34843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57DE-599D-469D-9FDA-0B800D4CC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7918-F984-41FA-8F39-E0FDA0A8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D201-BBEF-473D-8BD7-45C9ED06B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329C-6784-461D-8936-41E27E7BF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F637F-472B-4E6E-8A32-E26FCA4680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312840" y="1095480"/>
            <a:ext cx="883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circumscribed- verb. </a:t>
            </a:r>
            <a:r>
              <a:rPr b="0" lang="en-US" sz="2400" spc="-1" strike="noStrike">
                <a:solidFill>
                  <a:srgbClr val="333333"/>
                </a:solidFill>
                <a:latin typeface="Arial Black"/>
                <a:ea typeface="Times New Roman"/>
              </a:rPr>
              <a:t>to draw a line around; encir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http://thesaurus.maths.org/mmkb/media/png/Circumcircle.png"/>
          <p:cNvPicPr/>
          <p:nvPr/>
        </p:nvPicPr>
        <p:blipFill>
          <a:blip r:embed="rId1"/>
          <a:stretch/>
        </p:blipFill>
        <p:spPr>
          <a:xfrm>
            <a:off x="1922400" y="1542960"/>
            <a:ext cx="3772080" cy="377208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304920" y="5319360"/>
            <a:ext cx="12368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In geometry class, Mr. Lee asked me to </a:t>
            </a:r>
            <a:r>
              <a:rPr b="1" lang="en-U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circumscribe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the quadrilater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circum- around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scribe- to write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ed- past te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4495680" y="228600"/>
            <a:ext cx="3657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Kasaye Wil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Perio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5"/>
          <p:cNvSpPr/>
          <p:nvPr/>
        </p:nvSpPr>
        <p:spPr>
          <a:xfrm>
            <a:off x="990720" y="795960"/>
            <a:ext cx="655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subtle- adj.</a:t>
            </a:r>
            <a:r>
              <a:rPr b="0" lang="en-US" sz="2000" spc="-1" strike="noStrike">
                <a:solidFill>
                  <a:srgbClr val="333333"/>
                </a:solidFill>
                <a:latin typeface="Arial Black"/>
                <a:ea typeface="Times New Roman"/>
              </a:rPr>
              <a:t> skillful, clever, or ingeni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https://jspivey.wikispaces.com/file/view/painter.jpg/31520547/painter.jpg"/>
          <p:cNvPicPr/>
          <p:nvPr/>
        </p:nvPicPr>
        <p:blipFill>
          <a:blip r:embed="rId1"/>
          <a:stretch/>
        </p:blipFill>
        <p:spPr>
          <a:xfrm>
            <a:off x="1447920" y="1523880"/>
            <a:ext cx="5029200" cy="40672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6"/>
          <p:cNvSpPr/>
          <p:nvPr/>
        </p:nvSpPr>
        <p:spPr>
          <a:xfrm>
            <a:off x="609480" y="575676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subtle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painter created a master-pie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898560" y="6208560"/>
            <a:ext cx="725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ub- less than normal; beneath; under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le- to do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epeated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9T22:44:41Z</dcterms:created>
  <dc:creator>esg</dc:creator>
  <dc:description/>
  <dc:language>en-US</dc:language>
  <cp:lastModifiedBy>GACS</cp:lastModifiedBy>
  <dcterms:modified xsi:type="dcterms:W3CDTF">2010-01-26T19:50:29Z</dcterms:modified>
  <cp:revision>9</cp:revision>
  <dc:subject/>
  <dc:title>Slide 1</dc:title>
</cp:coreProperties>
</file>