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8C5-C472-4648-BA27-0116A772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0F0-07A8-441D-832A-3422214A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43E-13F1-408B-820B-306269B1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902-239A-4634-8FEC-CD313673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75D-A86D-4893-AB42-B4C9B7BA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B1D-D516-4B97-A2C3-2857BC98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C53-5D2D-47C8-8569-29F121D5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E88-FC17-4EFD-916F-69712C9B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BC5-CF41-4B23-9435-55D50326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BFC-CE37-43D7-BBC1-789B00A3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FA89-85E4-47EC-8F8C-78D97D16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3E9-7668-471D-AECB-B715D867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094C-C4A3-4756-BECB-C873E96E4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840" y="1095480"/>
            <a:ext cx="88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d- verb. </a:t>
            </a:r>
            <a:r>
              <a:rPr b="0" lang="en-US" sz="24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to draw a line around; en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://thesaurus.maths.org/mmkb/media/png/Circumcircle.png"/>
          <p:cNvPicPr/>
          <p:nvPr/>
        </p:nvPicPr>
        <p:blipFill>
          <a:blip r:embed="rId1"/>
          <a:stretch/>
        </p:blipFill>
        <p:spPr>
          <a:xfrm>
            <a:off x="1922400" y="1542960"/>
            <a:ext cx="3772080" cy="3772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04920" y="5319360"/>
            <a:ext cx="1236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geometry class, Mr. Lee asked me to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the quadrilate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- aroun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cribe- to writ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d- past t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495680" y="22860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asay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990720" y="7959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- adj.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 skillful, clever, or ingen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jspivey.wikispaces.com/file/view/painter.jpg/31520547/painter.jpg"/>
          <p:cNvPicPr/>
          <p:nvPr/>
        </p:nvPicPr>
        <p:blipFill>
          <a:blip r:embed="rId1"/>
          <a:stretch/>
        </p:blipFill>
        <p:spPr>
          <a:xfrm>
            <a:off x="1447920" y="1523880"/>
            <a:ext cx="5029200" cy="4067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609480" y="57567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painter created a master-pi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898560" y="6208560"/>
            <a:ext cx="72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- less than normal; beneath; und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- to do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peat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2:44:41Z</dcterms:created>
  <dc:creator>esg</dc:creator>
  <dc:description/>
  <dc:language>en-US</dc:language>
  <cp:lastModifiedBy>GACS</cp:lastModifiedBy>
  <dcterms:modified xsi:type="dcterms:W3CDTF">2010-01-26T19:50:29Z</dcterms:modified>
  <cp:revision>9</cp:revision>
  <dc:subject/>
  <dc:title>Slide 1</dc:title>
</cp:coreProperties>
</file>