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F25-0A51-4C00-935B-B67060A7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258D-E3AE-4540-9FD7-E326FB8E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BF3-4CB5-46EC-B072-5ABE7089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210-7ABC-4B18-8C50-6C7477D8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A9F-4138-486E-9B59-4935EE77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89A-E142-4D80-9312-5EDFCC70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B5C-29E7-4102-8EBC-29298161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D32-4DA0-4C0D-9C9A-834E3BF2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BECD-D416-4AED-8F53-827AA58C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E8A-A9F9-4851-B9B5-AE27BF05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C4D3-8262-43CD-B24F-E5B1E494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31A-F1A4-40D7-B260-41E33ED5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B57F-23FC-4901-A261-6D7C3A7FC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840" y="1095480"/>
            <a:ext cx="88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scribed- verb. </a:t>
            </a:r>
            <a:r>
              <a:rPr b="0" lang="en-US" sz="24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to draw a line around; en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://thesaurus.maths.org/mmkb/media/png/Circumcircle.png"/>
          <p:cNvPicPr/>
          <p:nvPr/>
        </p:nvPicPr>
        <p:blipFill>
          <a:blip r:embed="rId1"/>
          <a:stretch/>
        </p:blipFill>
        <p:spPr>
          <a:xfrm>
            <a:off x="1922400" y="1542960"/>
            <a:ext cx="3772080" cy="3772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304920" y="5319360"/>
            <a:ext cx="12368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geometry class, Mr. Lee asked me to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scrib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the quadrilate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- aroun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cribe- to writ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d- past t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495680" y="22860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asaye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990720" y="7959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tle- adj.</a:t>
            </a:r>
            <a:r>
              <a:rPr b="0" lang="en-US" sz="20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 skillful, clever, or ingen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s://jspivey.wikispaces.com/file/view/painter.jpg/31520547/painter.jpg"/>
          <p:cNvPicPr/>
          <p:nvPr/>
        </p:nvPicPr>
        <p:blipFill>
          <a:blip r:embed="rId1"/>
          <a:stretch/>
        </p:blipFill>
        <p:spPr>
          <a:xfrm>
            <a:off x="1447920" y="1523880"/>
            <a:ext cx="5029200" cy="4067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609480" y="57567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tle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painter created a master-pi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898560" y="6208560"/>
            <a:ext cx="72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- less than normal; beneath; und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- to do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peate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2:44:41Z</dcterms:created>
  <dc:creator>esg</dc:creator>
  <dc:description/>
  <dc:language>en-US</dc:language>
  <cp:lastModifiedBy>GACS</cp:lastModifiedBy>
  <dcterms:modified xsi:type="dcterms:W3CDTF">2010-01-26T19:50:29Z</dcterms:modified>
  <cp:revision>9</cp:revision>
  <dc:subject/>
  <dc:title>Slide 1</dc:title>
</cp:coreProperties>
</file>