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BA8-9B1C-4CB6-A7EF-8CCB9269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B6A-0453-433B-85B3-C3DC3D1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722-00A3-42CB-B577-CAC6C51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B4E-0378-4A88-91F4-19F8054B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B7C-30F3-44BA-94E1-D0549A80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977-6956-4FA9-842D-1C4F695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92B-28E7-4AFA-ACF1-11DB176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B37-AD6E-4CE0-A101-3009CB0C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F83-7021-4BA9-97BE-D2902311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1D4-957A-4C79-B21B-44BB7E7B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6F2-3874-42CD-A52C-7F2F7B3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EDA-5A96-4BA4-BAD4-67BF9F10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4EE-6091-4B4D-84CB-37F4CA24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n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ion n.- a chart or diagram; sketch; rough draf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-a prefix occurring in loanwords from Latin (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; also used to indicate privation, removal, and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neate- to make straight, mark with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on- a suffix, appearing in words of Latin origin, denoting action or condition, used in Latin and in English to form nouns from stems of Latin 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419400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used a delineation before starting the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2:05:21Z</dcterms:created>
  <dc:creator>Shripal Makim</dc:creator>
  <dc:description/>
  <dc:language>en-US</dc:language>
  <cp:lastModifiedBy>Shripal Makim</cp:lastModifiedBy>
  <dcterms:modified xsi:type="dcterms:W3CDTF">2010-01-26T02:12:32Z</dcterms:modified>
  <cp:revision>1</cp:revision>
  <dc:subject/>
  <dc:title>Vocab Word</dc:title>
</cp:coreProperties>
</file>