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03F-8628-4C75-9D4A-2146FBC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6D4-CEDD-4737-99CF-1390BE2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397-48D5-4274-8933-EC8D5B1F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F8A-A526-423F-93E1-146F4721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003-3FC3-42E4-A412-E5AC1A7C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D48-5C31-4923-9E39-F960C84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2EA-0232-4667-8319-E9CA0992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D2A-543C-45B1-915B-93E5D0D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C90-0C51-443C-B511-03F488D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D36-21B0-4586-BAAC-04F2650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FE-82F3-4A8B-B9AF-5EA7636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DDA-9118-4B6F-A45E-9BE3BEF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FC11-29A5-4454-8D11-0986F749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n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ion n.- a chart or diagram; sketch; rough draf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-a prefix occurring in loanwords from Latin (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; also used to indicate privation, removal, and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neate- to make straight, mark with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on- a suffix, appearing in words of Latin origin, denoting action or condition, used in Latin and in English to form nouns from stems of Latin 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419400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used a delineation before starting the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2:05:21Z</dcterms:created>
  <dc:creator>Shripal Makim</dc:creator>
  <dc:description/>
  <dc:language>en-US</dc:language>
  <cp:lastModifiedBy>Shripal Makim</cp:lastModifiedBy>
  <dcterms:modified xsi:type="dcterms:W3CDTF">2010-01-26T02:12:32Z</dcterms:modified>
  <cp:revision>1</cp:revision>
  <dc:subject/>
  <dc:title>Vocab Word</dc:title>
</cp:coreProperties>
</file>