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9F8-7AC5-4BA8-B6C9-EA0BAD7E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E51-7ADF-4902-9B8E-B45D828B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FEB-1015-4958-81FA-8E768A71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02F-CC38-494C-8867-A19B4571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499-F561-4BC9-90FF-C6E312C9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D53-4DEC-487F-805A-EED458DA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2CB-EB84-4B4E-8C1E-33BAD65E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64C-FF75-4135-A4D0-8321985D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782-D274-419B-A0CD-F6CCBCA0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F26-C44A-464F-939A-E6F58B3D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DC5-9399-4969-A6D9-88E9B65D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CE9-3A3A-4414-BF5F-ACD961C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CFF4-702D-4AB9-A896-42E8E498E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n Ma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n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neation n.- a chart or diagram; sketch; rough draf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-a prefix occurring in loanwords from Latin (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decid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; also used to indicate privation, removal, and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neate- to make straight, mark with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on- a suffix, appearing in words of Latin origin, denoting action or condition, used in Latin and in English to form nouns from stems of Latin 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4194000"/>
            <a:ext cx="4500720" cy="266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47242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 used a delineation before starting the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2:05:21Z</dcterms:created>
  <dc:creator>Shripal Makim</dc:creator>
  <dc:description/>
  <dc:language>en-US</dc:language>
  <cp:lastModifiedBy>Shripal Makim</cp:lastModifiedBy>
  <dcterms:modified xsi:type="dcterms:W3CDTF">2010-01-26T02:12:32Z</dcterms:modified>
  <cp:revision>1</cp:revision>
  <dc:subject/>
  <dc:title>Vocab Word</dc:title>
</cp:coreProperties>
</file>