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558-68BA-41D7-80B8-AF80E442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BBB-1FC8-4946-85B8-C39E3A76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D42-ED35-4DD5-8833-9901C265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318-05BD-423A-B231-41BC8C40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229-9717-4F0C-B65E-444B1C9B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D67-72BF-42AE-8C2D-ACB302AE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9BE-2166-4C61-8449-996A6533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991-0E95-40E0-8173-7F155C2C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F93-A561-49A0-BB74-F5AB29BA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66C-A707-435F-8901-FCB2DA9A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C2D-E1FC-4DD2-9580-559A6160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003-3913-4AB6-A987-B941B68B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152E-23E3-4886-A35D-FAF93F920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an Ma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n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neation n.- a chart or diagram; sketch; rough draf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-a prefix occurring in loanwords from Latin (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decid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); also used to indicate privation, removal, and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neate- to make straight, mark with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on- a suffix, appearing in words of Latin origin, denoting action or condition, used in Latin and in English to form nouns from stems of Latin ad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67080" y="4194000"/>
            <a:ext cx="4500720" cy="266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47242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y used a delineation before starting the pro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2:05:21Z</dcterms:created>
  <dc:creator>Shripal Makim</dc:creator>
  <dc:description/>
  <dc:language>en-US</dc:language>
  <cp:lastModifiedBy>Shripal Makim</cp:lastModifiedBy>
  <dcterms:modified xsi:type="dcterms:W3CDTF">2010-01-26T02:12:32Z</dcterms:modified>
  <cp:revision>1</cp:revision>
  <dc:subject/>
  <dc:title>Vocab Word</dc:title>
</cp:coreProperties>
</file>