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605-21BF-4E05-B64C-E682B423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C7A-091F-4B05-AA19-F38827E5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454-5925-47BB-A4EC-F76876EA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20E-7FC1-4119-A674-C7B1E274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843-EAF8-4E9A-91E5-7C0D0374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F7E-C10B-4641-B2F7-39199BFD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C7F-3DEA-47C6-9A1D-B565ACE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D48-668F-41AB-92F6-2ED6133D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604-D835-4C60-A274-4E97B17D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F57-FCBA-44BF-ACBE-56F8CC0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5D2-4CF4-441C-A80D-E59D72C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F12-D032-4BFF-88FE-4AA8E7F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0298-0B7A-41D7-BB54-C866F1A4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0:05Z</dcterms:modified>
  <cp:revision>6</cp:revision>
  <dc:subject/>
  <dc:title>Agminate </dc:title>
</cp:coreProperties>
</file>