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86E-4C11-461E-8B03-7612E793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3E0-234A-43AD-A28D-D0D3812F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864-2576-47A2-8B1F-D676A1A2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273-A38E-42BB-8F75-EEC728FA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7CF-755D-45D3-8E37-5A05F80D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903-F090-4DEF-BE11-98A37795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BCB-C5AB-4C70-A715-3B3D02C7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8B0-0BEC-4BEE-92FC-1CDE58ED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89E-3B57-4A35-A00F-D9A5A899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928-FA13-44B1-9EF7-1196335C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D1E0-36DD-4013-8EA2-00E8CE43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1549-C500-44B0-8717-11021E70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583E-7DC6-4CFA-85DF-C2650798A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eservoirGrunge"/>
              </a:rPr>
              <a:t>Agmina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Agminate- aggregated together au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The agminated group crowded the stage, jumping to the sound of the metal rock mus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Latin root: agmin- throng or crow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+ATE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concert-crowd"/>
          <p:cNvPicPr/>
          <p:nvPr/>
        </p:nvPicPr>
        <p:blipFill>
          <a:blip r:embed="rId1"/>
          <a:stretch/>
        </p:blipFill>
        <p:spPr>
          <a:xfrm>
            <a:off x="2666880" y="1905120"/>
            <a:ext cx="3810240" cy="2523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152280" y="152280"/>
            <a:ext cx="1219320" cy="6626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7696080" y="152280"/>
            <a:ext cx="1219320" cy="6626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1447920" y="457200"/>
            <a:ext cx="1066680" cy="1219320"/>
          </a:xfrm>
          <a:prstGeom prst="lightningBol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 rot="4173000">
            <a:off x="6476760" y="380880"/>
            <a:ext cx="990360" cy="1295640"/>
          </a:xfrm>
          <a:prstGeom prst="lightningBol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72400" y="228600"/>
            <a:ext cx="10666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a B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eri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1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eservoirGrunge"/>
              </a:rPr>
              <a:t>Au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augment- to enlarg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The specialized eye doctor augmented the patient’s pupil to check for vision imperfe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orky's"/>
              </a:rPr>
              <a:t>augmentāre:</a:t>
            </a: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 to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333600" cy="190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137160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327672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137160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27672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orky's"/>
              </a:rPr>
              <a:t>Vivac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vivacious- adj. lively or spirit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The vivacious family loved their family time they had on vacation, so for a last goodbye they jumped in the air for jo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Latin root: vivere, victum- t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jumping-for-joy2_oppg"/>
          <p:cNvPicPr/>
          <p:nvPr/>
        </p:nvPicPr>
        <p:blipFill>
          <a:blip r:embed="rId1"/>
          <a:stretch/>
        </p:blipFill>
        <p:spPr>
          <a:xfrm>
            <a:off x="1600200" y="1143000"/>
            <a:ext cx="5952960" cy="39528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/>
          <p:cNvSpPr/>
          <p:nvPr/>
        </p:nvSpPr>
        <p:spPr>
          <a:xfrm>
            <a:off x="1066680" y="685800"/>
            <a:ext cx="1143000" cy="1143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4:08:46Z</dcterms:created>
  <dc:creator>HP Authorized Customer</dc:creator>
  <dc:description/>
  <dc:language>en-US</dc:language>
  <cp:lastModifiedBy>HP Authorized Customer</cp:lastModifiedBy>
  <dcterms:modified xsi:type="dcterms:W3CDTF">2010-01-22T00:10:05Z</dcterms:modified>
  <cp:revision>6</cp:revision>
  <dc:subject/>
  <dc:title>Agminate </dc:title>
</cp:coreProperties>
</file>