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118-CB81-4EA7-BB5E-5EE7E6EC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5ED-E0D1-40B5-9041-2E4DEF8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314-E485-408B-9855-950D716D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540-47FE-4A0F-BACF-515A0DFE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698-606A-46EF-980B-28983C2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DE6-B7B7-474F-B05F-CEA4EFB7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A24-E931-4F5F-AAB7-4B7C1F6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B64-C8CA-4D3A-A0A4-EF561020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5A3-D999-4656-B8E9-A2BCCDF9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D47-B514-4738-B213-AAEC5D6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DE2-948E-4543-BC4B-0830AF2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937-8772-4087-AA17-1231DDF2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8F9-1809-49C3-8F0C-7E8F4CF6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0:05Z</dcterms:modified>
  <cp:revision>6</cp:revision>
  <dc:subject/>
  <dc:title>Agminate </dc:title>
</cp:coreProperties>
</file>