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B411-1167-4BA9-B176-3635F52D1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6388-568F-42E6-8A3F-A54ABDE4B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3E9F-B203-460A-AFDA-EC72414F3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EBB5-DE04-4576-A75F-C9CB3BDED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AF63-8B65-411F-BA18-D0D3A0D3F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02F0-3FE4-4B86-AB09-642AA9488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177B-1919-4B9C-A76C-715BA7C06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21F5-A7FF-40B0-B6BC-002ECCEFE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50D4-6D28-4268-96FC-35AA6F94C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5BB5-F48E-4D56-A612-460B5A17B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B8E8-2C66-4924-8081-3B7918FE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8C95-DE95-49D3-A6AC-ED014012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02846-F329-44C8-A547-0C3E84734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eservoirGrunge"/>
              </a:rPr>
              <a:t>Agminat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Agminate- aggregated together aug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The agminated group crowded the stage, jumping to the sound of the metal rock mus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Latin root: agmin- throng or crow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+ATE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concert-crowd"/>
          <p:cNvPicPr/>
          <p:nvPr/>
        </p:nvPicPr>
        <p:blipFill>
          <a:blip r:embed="rId1"/>
          <a:stretch/>
        </p:blipFill>
        <p:spPr>
          <a:xfrm>
            <a:off x="2666880" y="1905120"/>
            <a:ext cx="3810240" cy="25239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8"/>
          <p:cNvSpPr/>
          <p:nvPr/>
        </p:nvSpPr>
        <p:spPr>
          <a:xfrm>
            <a:off x="152280" y="152280"/>
            <a:ext cx="1219320" cy="6626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7696080" y="152280"/>
            <a:ext cx="1219320" cy="6626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0"/>
          <p:cNvSpPr/>
          <p:nvPr/>
        </p:nvSpPr>
        <p:spPr>
          <a:xfrm>
            <a:off x="1447920" y="457200"/>
            <a:ext cx="1066680" cy="1219320"/>
          </a:xfrm>
          <a:prstGeom prst="lightningBol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1"/>
          <p:cNvSpPr/>
          <p:nvPr/>
        </p:nvSpPr>
        <p:spPr>
          <a:xfrm rot="4173000">
            <a:off x="6476760" y="380880"/>
            <a:ext cx="990360" cy="1295640"/>
          </a:xfrm>
          <a:prstGeom prst="lightningBol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772400" y="228600"/>
            <a:ext cx="10666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a Ba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erio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21/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eservoirGrunge"/>
              </a:rPr>
              <a:t>Au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orky's"/>
              </a:rPr>
              <a:t>augment- to enlarg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orky'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Porky's"/>
              </a:rPr>
              <a:t>The specialized eye doctor augmented the patient’s pupil to check for vision imperfec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orky's"/>
              </a:rPr>
              <a:t>augmentāre:</a:t>
            </a:r>
            <a:r>
              <a:rPr b="1" lang="en-US" sz="2400" spc="-1" strike="noStrike">
                <a:solidFill>
                  <a:srgbClr val="000000"/>
                </a:solidFill>
                <a:latin typeface="Porky's"/>
              </a:rPr>
              <a:t> to incr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819520" y="1676520"/>
            <a:ext cx="3333600" cy="1904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438280" y="1371600"/>
            <a:ext cx="609840" cy="60948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38280" y="3276720"/>
            <a:ext cx="609840" cy="60948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867280" y="1371600"/>
            <a:ext cx="609840" cy="60948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3276720"/>
            <a:ext cx="609840" cy="60948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orky's"/>
              </a:rPr>
              <a:t>Vivaci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5257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a Super"/>
              </a:rPr>
              <a:t>vivacious- adj. lively or spirite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a Super"/>
              </a:rPr>
              <a:t>The vivacious family loved their family time they had on vacation, so for a last goodbye they jumped in the air for jo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a Super"/>
              </a:rPr>
              <a:t>Latin root: vivere, victum- to l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jumping-for-joy2_oppg"/>
          <p:cNvPicPr/>
          <p:nvPr/>
        </p:nvPicPr>
        <p:blipFill>
          <a:blip r:embed="rId1"/>
          <a:stretch/>
        </p:blipFill>
        <p:spPr>
          <a:xfrm>
            <a:off x="1600200" y="1143000"/>
            <a:ext cx="5952960" cy="395280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6"/>
          <p:cNvSpPr/>
          <p:nvPr/>
        </p:nvSpPr>
        <p:spPr>
          <a:xfrm>
            <a:off x="1066680" y="685800"/>
            <a:ext cx="1143000" cy="11430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04:08:46Z</dcterms:created>
  <dc:creator>HP Authorized Customer</dc:creator>
  <dc:description/>
  <dc:language>en-US</dc:language>
  <cp:lastModifiedBy>HP Authorized Customer</cp:lastModifiedBy>
  <dcterms:modified xsi:type="dcterms:W3CDTF">2010-01-22T00:10:05Z</dcterms:modified>
  <cp:revision>6</cp:revision>
  <dc:subject/>
  <dc:title>Agminate </dc:title>
</cp:coreProperties>
</file>