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F0E-F6B9-4F2D-8619-8C3D4A84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5D1-F3DE-4300-8D8D-E3111FBC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022-C00A-4F7D-BD86-64F5DF52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2C9-22A2-4C79-B6B0-A666D57A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EF9-2A7F-4DA7-AA65-A35B9618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7206-D188-4D47-BC83-C82C5C5C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2D9-7E70-4D3F-A164-20F6C19C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8E8-BDAD-400B-9423-CF0BB24D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017-29D4-4806-9672-21117309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E19-0286-4FA9-87CD-21B907D9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3E9-54BB-4285-BC30-43438CA2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3EC-B0CD-40D5-96CA-DD035C8B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5900-5440-4970-944F-2A7BD6723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4876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ath- noun-from Old English wrǣththu- fierc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re-noun-Latin: īra anger -intens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wra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i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521052385_97fac6b326"/>
          <p:cNvPicPr/>
          <p:nvPr/>
        </p:nvPicPr>
        <p:blipFill>
          <a:blip r:embed="rId1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babyinstructions01"/>
          <p:cNvPicPr/>
          <p:nvPr/>
        </p:nvPicPr>
        <p:blipFill>
          <a:blip r:embed="rId2"/>
          <a:stretch/>
        </p:blipFill>
        <p:spPr>
          <a:xfrm>
            <a:off x="304920" y="2590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5181480" y="45720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rder to avoid the unexpected babies'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rath/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e must treat them nice and give them what they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7242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ayunish- petty,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 a-yun ish ad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80–90; &lt; Pr picaioun small copper coin, deriv. of an onomatopoetic base *pikk- beat, here referring to the coining of cop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dictionary.reference.com/browse/picayun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4.bp.blogspot.com/_z1Ez7ODMGn4/SfMGItTsppI/AAAAAAAAARQ/0hCUhZEmaNc/s320/picky-eaters.jpg"/>
          <p:cNvPicPr/>
          <p:nvPr/>
        </p:nvPicPr>
        <p:blipFill>
          <a:blip r:embed="rId1"/>
          <a:stretch/>
        </p:blipFill>
        <p:spPr>
          <a:xfrm>
            <a:off x="914400" y="3808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5105520" y="6094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icayuni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ild did not want his peas to touch his mash potato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905120" y="380988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30:50Z</dcterms:created>
  <dc:creator>deepfreeze</dc:creator>
  <dc:description/>
  <dc:language>en-US</dc:language>
  <cp:lastModifiedBy>deepfreeze</cp:lastModifiedBy>
  <dcterms:modified xsi:type="dcterms:W3CDTF">2010-01-29T12:39:20Z</dcterms:modified>
  <cp:revision>5</cp:revision>
  <dc:subject/>
  <dc:title>Slide 1</dc:title>
</cp:coreProperties>
</file>