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74D6-BE1B-4A6B-B636-754D5E817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9A9B-5E3A-4AC8-A3DD-717369E9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F204-88F9-4E0A-8BAD-967D5AC0A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75A4-DF22-4CC1-98AB-CEE7FD597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E540-8D70-45DD-BE5C-B8E5A805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1516-3309-470C-B533-B09F5F46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022B-96E0-4416-A479-ACAA2281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6D1A-2DF6-4E21-AF13-58953756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4AAE-D9B7-4346-84D1-2C4B6F04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3420-6158-44C9-92B6-839DE509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98A3-011B-4AB3-B0C7-32A5C575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BC87-E144-46C2-AA61-0F3CE236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B9B7-24B6-4A4B-956F-534636E233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880" y="4876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rath- noun-from Old English wrǣththu- fierce an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re-noun-Latin: īra anger -intense an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ttp://dictionary.reference.com/browse/wrat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ttp://dictionary.reference.com/browse/i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521052385_97fac6b326"/>
          <p:cNvPicPr/>
          <p:nvPr/>
        </p:nvPicPr>
        <p:blipFill>
          <a:blip r:embed="rId1"/>
          <a:stretch/>
        </p:blipFill>
        <p:spPr>
          <a:xfrm>
            <a:off x="0" y="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babyinstructions01"/>
          <p:cNvPicPr/>
          <p:nvPr/>
        </p:nvPicPr>
        <p:blipFill>
          <a:blip r:embed="rId2"/>
          <a:stretch/>
        </p:blipFill>
        <p:spPr>
          <a:xfrm>
            <a:off x="304920" y="25909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"/>
          <p:cNvSpPr/>
          <p:nvPr/>
        </p:nvSpPr>
        <p:spPr>
          <a:xfrm>
            <a:off x="5181480" y="457200"/>
            <a:ext cx="32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order to avoid the unexpected babies'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wrath/i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we must treat them nice and give them what they w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47242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icayunish- petty,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ic a-yun ish adj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780–90; &lt; Pr picaioun small copper coin, deriv. of an onomatopoetic base *pikk- beat, here referring to the coining of copp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dictionary.reference.com/browse/picayunis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4.bp.blogspot.com/_z1Ez7ODMGn4/SfMGItTsppI/AAAAAAAAARQ/0hCUhZEmaNc/s320/picky-eaters.jpg"/>
          <p:cNvPicPr/>
          <p:nvPr/>
        </p:nvPicPr>
        <p:blipFill>
          <a:blip r:embed="rId1"/>
          <a:stretch/>
        </p:blipFill>
        <p:spPr>
          <a:xfrm>
            <a:off x="914400" y="38088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5105520" y="609480"/>
            <a:ext cx="327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icayunis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hild did not want his peas to touch his mash potato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6"/>
          <p:cNvSpPr/>
          <p:nvPr/>
        </p:nvSpPr>
        <p:spPr>
          <a:xfrm>
            <a:off x="2057400" y="3809880"/>
            <a:ext cx="76320" cy="76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905120" y="3809880"/>
            <a:ext cx="75960" cy="76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6:30:50Z</dcterms:created>
  <dc:creator>deepfreeze</dc:creator>
  <dc:description/>
  <dc:language>en-US</dc:language>
  <cp:lastModifiedBy>deepfreeze</cp:lastModifiedBy>
  <dcterms:modified xsi:type="dcterms:W3CDTF">2010-01-29T12:39:20Z</dcterms:modified>
  <cp:revision>5</cp:revision>
  <dc:subject/>
  <dc:title>Slide 1</dc:title>
</cp:coreProperties>
</file>