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0B4-1870-4739-B91D-760237BF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B45-1E7B-4829-BB79-999D7949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570-0E68-4CC9-B7BF-9DFD5219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690-FC20-4EDA-A30B-D3286455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9A1-F18F-4519-9633-DB0CA405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696-2FA9-4769-8BF0-8C8687A5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847-6D26-40BB-B827-ABC6518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3AD-5528-492C-BC8F-29937857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111-0BB3-42F9-988C-77FFFE6C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7F8-7378-442D-B251-54756460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12C-3D52-45F5-9537-B19A1F82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E31-BA81-4E85-97D8-43272A6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797A-AF6B-4326-9826-0AF8E255B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29T12:39:20Z</dcterms:modified>
  <cp:revision>5</cp:revision>
  <dc:subject/>
  <dc:title>Slide 1</dc:title>
</cp:coreProperties>
</file>