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5272-C1E5-4A16-A526-2D9144F66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95AE-466D-4599-82C5-F794A4A7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5B49-7B7E-46A5-9FF3-35BBD2219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B150-6099-4DF7-9816-C459B90A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118D-96CD-4C3F-B620-47E96867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B518-68B2-4360-930B-1D9B2F5C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4AAB-7EE0-4893-A03B-CAFF19DC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AF27-5D94-4951-BF3E-3926A608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2708-1117-412E-BDE7-C76C90FC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0BC0-71A2-4EBE-A45A-4C94A652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258B-4424-47D6-9A1C-43AF560D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1467-7C1E-4729-B0E7-D26C403A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F494-B219-4AE3-AB11-B941708C1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880" y="4876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rath- noun-from Old English wrǣththu- fierce an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re-noun-Latin: īra anger -intense an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ttp://dictionary.reference.com/browse/wrat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ttp://dictionary.reference.com/browse/i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521052385_97fac6b326"/>
          <p:cNvPicPr/>
          <p:nvPr/>
        </p:nvPicPr>
        <p:blipFill>
          <a:blip r:embed="rId1"/>
          <a:stretch/>
        </p:blipFill>
        <p:spPr>
          <a:xfrm>
            <a:off x="0" y="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babyinstructions01"/>
          <p:cNvPicPr/>
          <p:nvPr/>
        </p:nvPicPr>
        <p:blipFill>
          <a:blip r:embed="rId2"/>
          <a:stretch/>
        </p:blipFill>
        <p:spPr>
          <a:xfrm>
            <a:off x="304920" y="25909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5181480" y="457200"/>
            <a:ext cx="32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order to avoid the unexpected babies'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wrath/i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we must treat them nice and give them what they w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47242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icayunish- petty,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ic a-yun ish adj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780–90; &lt; Pr picaioun small copper coin, deriv. of an onomatopoetic base *pikk- beat, here referring to the coining of copp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dictionary.reference.com/browse/picayunis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4.bp.blogspot.com/_z1Ez7ODMGn4/SfMGItTsppI/AAAAAAAAARQ/0hCUhZEmaNc/s320/picky-eaters.jpg"/>
          <p:cNvPicPr/>
          <p:nvPr/>
        </p:nvPicPr>
        <p:blipFill>
          <a:blip r:embed="rId1"/>
          <a:stretch/>
        </p:blipFill>
        <p:spPr>
          <a:xfrm>
            <a:off x="914400" y="3808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5105520" y="609480"/>
            <a:ext cx="327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icayunis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hild did not want his peas to touch his mash potato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6"/>
          <p:cNvSpPr/>
          <p:nvPr/>
        </p:nvSpPr>
        <p:spPr>
          <a:xfrm>
            <a:off x="2057400" y="3809880"/>
            <a:ext cx="76320" cy="76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905120" y="3809880"/>
            <a:ext cx="75960" cy="76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6:30:50Z</dcterms:created>
  <dc:creator>deepfreeze</dc:creator>
  <dc:description/>
  <dc:language>en-US</dc:language>
  <cp:lastModifiedBy>deepfreeze</cp:lastModifiedBy>
  <dcterms:modified xsi:type="dcterms:W3CDTF">2010-01-29T12:39:20Z</dcterms:modified>
  <cp:revision>5</cp:revision>
  <dc:subject/>
  <dc:title>Slide 1</dc:title>
</cp:coreProperties>
</file>