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17F-AD39-4A21-B419-B4DE4908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AB4-01B2-49B4-8059-EE5CD030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090-A7D3-46A5-9CF5-93152BE8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480-F132-4368-B3A5-1F7F8E80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6AA-2467-4E01-BA85-99D3D7D1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2AF3-5DA0-4A51-A0C2-4E0CC75D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B80-0A1B-4EBE-8E99-4EDCA0D7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2C9-419C-4E98-991C-B690136E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286-4E54-4A4D-B4FC-2CCE6A17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868-153E-4EBC-8E49-5B60B10F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4D4-4C1B-4438-B28B-C6516131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3FF-E8FB-44C5-AE59-A54F8D37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EDA9-11EB-4C1E-A143-C066941CF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ath- noun-from Old English wrǣththu- fierc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re-noun-Latin: īra anger -intense a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wra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ttp://dictionary.reference.com/browse/i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521052385_97fac6b326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abyinstructions01"/>
          <p:cNvPicPr/>
          <p:nvPr/>
        </p:nvPicPr>
        <p:blipFill>
          <a:blip r:embed="rId2"/>
          <a:stretch/>
        </p:blipFill>
        <p:spPr>
          <a:xfrm>
            <a:off x="304920" y="2590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5181480" y="4572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avoid the unexpected babies'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ath/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e must treat them nice and give them what they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24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ayunish- petty,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 a-yun ish ad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80–90; &lt; Pr picaioun small copper coin, deriv. of an onomatopoetic base *pikk- beat, here referring to the coining of cop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dictionary.reference.com/browse/picayun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4.bp.blogspot.com/_z1Ez7ODMGn4/SfMGItTsppI/AAAAAAAAARQ/0hCUhZEmaNc/s320/picky-eaters.jpg"/>
          <p:cNvPicPr/>
          <p:nvPr/>
        </p:nvPicPr>
        <p:blipFill>
          <a:blip r:embed="rId1"/>
          <a:stretch/>
        </p:blipFill>
        <p:spPr>
          <a:xfrm>
            <a:off x="914400" y="380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5105520" y="6094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icayun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ild did not want his peas to touch his mash potat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905120" y="380988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30:50Z</dcterms:created>
  <dc:creator>deepfreeze</dc:creator>
  <dc:description/>
  <dc:language>en-US</dc:language>
  <cp:lastModifiedBy>deepfreeze</cp:lastModifiedBy>
  <dcterms:modified xsi:type="dcterms:W3CDTF">2010-01-29T12:39:20Z</dcterms:modified>
  <cp:revision>5</cp:revision>
  <dc:subject/>
  <dc:title>Slide 1</dc:title>
</cp:coreProperties>
</file>